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A89-231A-4641-BCBD-7531C1B5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710-AD38-4C6F-9C75-506B3EA0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61B-02C3-4C3F-A608-BC5C07A0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7B8-FE25-4FA5-A430-989E334D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B106-2F12-4605-A610-5DAAADDC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0EF-4CB7-4A31-8B27-FF043C9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7AE-5B6B-45C9-8CDF-602510C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E88D-6880-469D-BA91-5A38301D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843E-14ED-4054-B5A7-33F273C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762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D327-BADD-44CE-BCA8-D9F15EA2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174-4087-474A-B045-9FCA321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CB0-3841-4DB2-9448-158FD72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841-389A-4C03-BA1D-C8360CB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B9C8-DC66-4FB4-9989-777D73B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03B-BA32-4A82-A9AE-52DFA0F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166-88EA-4CCF-ADC9-C33EA4FA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ACE1-07CF-4280-9E1C-AFBB115F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456-9551-4A2D-9A08-94E7265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B31-7ECA-4B00-A0BF-58F216B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2DB-5E85-4C6A-B58D-306F347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4762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73B-7229-456C-981E-FD02B4F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B65-2DAA-474A-832F-85265A4B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F16-31E4-471B-B6C9-DA4B4AF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7FB-B6EE-41EF-AFF1-47676125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4800" cy="755640"/>
            <a:chOff x="0" y="0"/>
            <a:chExt cx="9154800" cy="755640"/>
          </a:xfrm>
        </p:grpSpPr>
        <p:sp>
          <p:nvSpPr>
            <p:cNvPr id="1" name=""/>
            <p:cNvSpPr/>
            <p:nvPr/>
          </p:nvSpPr>
          <p:spPr>
            <a:xfrm>
              <a:off x="7560" y="0"/>
              <a:ext cx="9147240" cy="75564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160"/>
              <a:ext cx="406080" cy="40068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560" y="0"/>
              <a:ext cx="1123560" cy="72720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7720" y="425880"/>
              <a:ext cx="398160" cy="30744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080" y="0"/>
              <a:ext cx="252000" cy="114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360" y="0"/>
              <a:ext cx="721800" cy="3423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7880" y="58320"/>
              <a:ext cx="657000" cy="17100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0760" y="0"/>
              <a:ext cx="825120" cy="35640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3760" y="243720"/>
              <a:ext cx="684000" cy="36936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0280" y="137880"/>
              <a:ext cx="628200" cy="35964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3520" y="379800"/>
              <a:ext cx="818640" cy="35352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160" y="513360"/>
              <a:ext cx="656640" cy="15840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3440" y="594000"/>
              <a:ext cx="237600" cy="11376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6480" y="422640"/>
              <a:ext cx="234720" cy="14436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2240" y="91800"/>
              <a:ext cx="1488600" cy="25020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0360" y="229320"/>
              <a:ext cx="590400" cy="15552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2360" y="487800"/>
              <a:ext cx="504720" cy="25020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6920" y="460800"/>
              <a:ext cx="603000" cy="27576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1560" y="296280"/>
              <a:ext cx="829800" cy="10908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2280" y="294480"/>
              <a:ext cx="852120" cy="18972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5440" y="494280"/>
              <a:ext cx="1269360" cy="22608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0920" y="379800"/>
              <a:ext cx="637920" cy="18216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7400" cy="136080"/>
            <a:chOff x="0" y="6180120"/>
            <a:chExt cx="9167400" cy="136080"/>
          </a:xfrm>
        </p:grpSpPr>
        <p:sp>
          <p:nvSpPr>
            <p:cNvPr id="24" name=""/>
            <p:cNvSpPr/>
            <p:nvPr/>
          </p:nvSpPr>
          <p:spPr>
            <a:xfrm>
              <a:off x="6413760" y="6203520"/>
              <a:ext cx="2753640" cy="1126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040" y="6189480"/>
              <a:ext cx="4213440" cy="936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39280" cy="96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200" y="6367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3F0570-5919-4977-9699-A9CC041A6535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4800" cy="755640"/>
            <a:chOff x="19080" y="1109520"/>
            <a:chExt cx="9154800" cy="755640"/>
          </a:xfrm>
        </p:grpSpPr>
        <p:sp>
          <p:nvSpPr>
            <p:cNvPr id="69" name=""/>
            <p:cNvSpPr/>
            <p:nvPr/>
          </p:nvSpPr>
          <p:spPr>
            <a:xfrm>
              <a:off x="26640" y="1109520"/>
              <a:ext cx="9147240" cy="75564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4680"/>
              <a:ext cx="406080" cy="400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640" y="1109520"/>
              <a:ext cx="1123560" cy="7268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6800" y="1535760"/>
              <a:ext cx="397800" cy="3067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160" y="1109520"/>
              <a:ext cx="252000" cy="114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440" y="1109520"/>
              <a:ext cx="721800" cy="342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6960" y="1168200"/>
              <a:ext cx="657000" cy="170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59840" y="1109520"/>
              <a:ext cx="825120" cy="35640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2840" y="1353240"/>
              <a:ext cx="684000" cy="36900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9360" y="1247400"/>
              <a:ext cx="628200" cy="3592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2600" y="1489680"/>
              <a:ext cx="818640" cy="3528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240" y="1622520"/>
              <a:ext cx="656640" cy="15804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2520" y="1703520"/>
              <a:ext cx="23760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5560" y="1532520"/>
              <a:ext cx="234360" cy="14400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1320" y="1201320"/>
              <a:ext cx="1488600" cy="25020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69440" y="1339200"/>
              <a:ext cx="590400" cy="1548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1440" y="1597320"/>
              <a:ext cx="504720" cy="24984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6000" y="1570320"/>
              <a:ext cx="603000" cy="27540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0640" y="1405800"/>
              <a:ext cx="829800" cy="10908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1360" y="1404360"/>
              <a:ext cx="852120" cy="18972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4160" y="1603440"/>
              <a:ext cx="1269720" cy="2264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0000" y="1489680"/>
              <a:ext cx="637920" cy="18180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7400" cy="136080"/>
            <a:chOff x="20520" y="6161040"/>
            <a:chExt cx="9167400" cy="136080"/>
          </a:xfrm>
        </p:grpSpPr>
        <p:sp>
          <p:nvSpPr>
            <p:cNvPr id="92" name=""/>
            <p:cNvSpPr/>
            <p:nvPr/>
          </p:nvSpPr>
          <p:spPr>
            <a:xfrm>
              <a:off x="6434280" y="6184440"/>
              <a:ext cx="2753640" cy="1126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1560" y="6170400"/>
              <a:ext cx="4213800" cy="936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39640" cy="9720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6960"/>
            <a:ext cx="777096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440" y="634824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3720" y="634824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020B0-D289-4ECC-9B92-19D845E8D29D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400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Verdana"/>
              </a:rPr>
              <a:t>Thursday's Terrific Top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Entrance task: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Prepare to be dazzled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Today: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Reforms in England and the Irish Potato issue - was it a famine or genocide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Homework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- Review Ch. 23, essay thing due Friday, test on Frida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nead O'Conn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amin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ok at a document analysis sheet in your study gui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ply this song as a primary source to these questions (in your mind, not on paper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itor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sider the document analysis questions in context of this editoria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nish Ch. 2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Quiz tomorr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720" y="685440"/>
            <a:ext cx="2057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he potato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50040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7816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38440" y="1035000"/>
            <a:ext cx="566892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29460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00740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55818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52132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081320" cy="6043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06760" y="304920"/>
            <a:ext cx="47372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rkshopguest1</dc:creator>
  <dc:description/>
  <dc:language>en-US</dc:language>
  <cp:lastModifiedBy>Susan Vanderpool</cp:lastModifiedBy>
  <dcterms:modified xsi:type="dcterms:W3CDTF">2008-07-07T01:57:32Z</dcterms:modified>
  <cp:revision>1</cp:revision>
  <dc:subject/>
  <dc:title>Tuesday’s Terrific Topics</dc:title>
</cp:coreProperties>
</file>